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853E-C5AF-43B5-BC9F-584EE3348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E130-78A4-490F-BB45-516E2043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0EB0-2E6E-475F-B04E-D1599CFF8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71F8-B779-4E91-B7EA-BD5838A39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4AB4-F354-4574-83FA-985841DE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4768-D07B-4F1E-AD33-8F75F0A6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F9BC-A396-41AC-804B-BA3DD0B8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080D-4C4A-44AA-9364-E57BAD38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5670-9378-4A0D-963C-19F9D95D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FD2F-4789-40C1-8CF2-DE641A12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2BA1-7880-4317-A77C-75651F05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1551-ECB2-494C-BC33-8846797B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E905-0D5A-410F-B847-484760802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20445" b="0"/>
          <a:stretch/>
        </p:blipFill>
        <p:spPr>
          <a:xfrm>
            <a:off x="0" y="0"/>
            <a:ext cx="9144000" cy="7975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4008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NZ" sz="2400" spc="-1" strike="noStrike">
                <a:solidFill>
                  <a:srgbClr val="ffff00"/>
                </a:solidFill>
                <a:latin typeface="Times New Roman"/>
              </a:rPr>
              <a:t>by Bromley, Bio, Olivia and Stac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50920" y="692280"/>
            <a:ext cx="856764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e Kuiti Sanitary Landfil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9900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5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60280"/>
            <a:ext cx="9144000" cy="69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</a:rPr>
              <a:t>The landfill started at tenth of January 2000.</a:t>
            </a:r>
            <a:br>
              <a:rPr sz="3200"/>
            </a:br>
            <a:br>
              <a:rPr sz="3200"/>
            </a:br>
            <a:r>
              <a:rPr b="1" lang="en-NZ" sz="3200" spc="-1" strike="noStrike">
                <a:solidFill>
                  <a:srgbClr val="000000"/>
                </a:solidFill>
                <a:latin typeface="Times New Roman"/>
              </a:rPr>
              <a:t>In 20 years the landfill might be fill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</a:rPr>
              <a:t>15,000 people come a year to the landfill, this does not count the weigh-in truc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</a:rPr>
              <a:t>There were twenty five children in our class and we weighed nine hundred and eighty KGS with bags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6449" t="0" r="29024" b="0"/>
          <a:stretch/>
        </p:blipFill>
        <p:spPr>
          <a:xfrm>
            <a:off x="-17640" y="-27000"/>
            <a:ext cx="3524400" cy="6885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6449" t="0" r="29024" b="0"/>
          <a:stretch/>
        </p:blipFill>
        <p:spPr>
          <a:xfrm>
            <a:off x="1619280" y="0"/>
            <a:ext cx="3510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rcRect l="6449" t="0" r="29024" b="0"/>
          <a:stretch/>
        </p:blipFill>
        <p:spPr>
          <a:xfrm>
            <a:off x="3583080" y="0"/>
            <a:ext cx="3510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rcRect l="6449" t="0" r="29024" b="0"/>
          <a:stretch/>
        </p:blipFill>
        <p:spPr>
          <a:xfrm>
            <a:off x="5686560" y="0"/>
            <a:ext cx="34574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7740720" cy="65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Times New Roman"/>
              </a:rPr>
              <a:t>Mr Silver is a civil engine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Times New Roman"/>
              </a:rPr>
              <a:t>Mr Silver has been working at the sanitary landfill for 4 yea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Times New Roman"/>
              </a:rPr>
              <a:t>Mr Silver wants to crush the glas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NZ" sz="3600" spc="-1" strike="noStrike">
                <a:solidFill>
                  <a:srgbClr val="000000"/>
                </a:solidFill>
                <a:latin typeface="Times New Roman"/>
              </a:rPr>
              <a:t>The glass is made out of sa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Times New Roman"/>
              </a:rPr>
              <a:t>Five people work at the landfi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6094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333360"/>
            <a:ext cx="842472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</a:rPr>
              <a:t>50% of people recycle in Te Kuit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</a:rPr>
              <a:t>They recycle 20,000 pieces of plast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</a:rPr>
              <a:t>All of the dirty water transfers to other ponds then the landfill gets clean wat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</a:rPr>
              <a:t>91% of green waste has been recycled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83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500720" y="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1:55:04Z</dcterms:created>
  <dc:creator>Windows3</dc:creator>
  <dc:description/>
  <dc:language>en-US</dc:language>
  <cp:lastModifiedBy>Students</cp:lastModifiedBy>
  <dcterms:modified xsi:type="dcterms:W3CDTF">2007-08-30T22:15:18Z</dcterms:modified>
  <cp:revision>13</cp:revision>
  <dc:subject/>
  <dc:title>PowerPoint Presentation</dc:title>
</cp:coreProperties>
</file>